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8EEA-B06E-4E6A-9B48-EBAC74CF9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DDF5-F4F0-4F01-BDD2-E80D99CF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BD87-BE52-4356-B73B-9F0145A7D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9161-FE70-4BEB-BAAD-C7CFB8481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04517-016E-4E09-B3A2-F353BAB11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FB47-431F-4411-B88A-0CA1D956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E43B-DDC3-455B-9D75-C14AB7B9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44DCD-70A6-44D1-9320-EBF53045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C0A84-659E-40B5-BB76-F9D597B1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A77F-E132-4C1F-8A95-ADD256F1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8AC8-88C9-4E53-AAC5-FD2DC28F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4684-2078-4AB7-8AA4-0E7D48CF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6909E-993A-40BF-955A-FE0B7262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B8CB-3C29-4945-AE2C-B2245D77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4D96E-2C8B-425D-AFF1-80C05150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5BB5-974B-487B-9F87-3976C24CC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2F20-5FF6-40E4-964C-9671EC40B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5E22-7424-43D6-81F7-AD4C48DF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84E4-9624-4D37-A9B5-5435DDAE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545F-47B0-4C2C-8D40-FB8348F6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D728-2428-40C0-BB67-22DCA869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0BBE-6C26-4A41-8084-BA4C837C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184A-7D22-4883-8945-872FFD7C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4352-AB54-40F1-AF39-0E1543BB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8DA5-9116-4B84-93ED-F4EE4548B770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DB31-5560-430E-82A5-0905B6AFA1D9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7d47d"/>
                </a:solidFill>
                <a:latin typeface="Arial"/>
              </a:rPr>
              <a:t>Math Videos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Jennifer Lyon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5943600" y="44956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Essential Questions  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ow would I ensure comprehension of a mathematical concept?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Unit Question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ow would I explain a math concept in a video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ow would I teach a math concept?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ontent Question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hat are some mathematical properties of the real numbers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hat is a literal equation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ow do you solve one-step or multi-step equations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hat is a matrix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How can I compare and contrast data sets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tudents will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reate a SmartBoard Presentation involving a specific Standard of Learning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Record an audio to correlate with the SmartBoard Presentati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2f1311"/>
                </a:solidFill>
                <a:latin typeface="Bookman Old Style"/>
              </a:rPr>
              <a:t>Assessment</a:t>
            </a:r>
            <a:endParaRPr b="0" lang="en-US" sz="8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Before Project Begin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Brainstorming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eacher/ group conference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During Projec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Rubric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hecklis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eacher comments on daily progres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martBoard presentation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Record of audio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After Project Finish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eer Assessment Rubric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eacher Rubric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22:36:24Z</dcterms:created>
  <dc:creator>Valued Gateway Client</dc:creator>
  <dc:description/>
  <dc:language>en-US</dc:language>
  <cp:lastModifiedBy>Valued Gateway Client</cp:lastModifiedBy>
  <dcterms:modified xsi:type="dcterms:W3CDTF">2009-10-14T23:00:45Z</dcterms:modified>
  <cp:revision>2</cp:revision>
  <dc:subject/>
  <dc:title>Math Videos</dc:title>
</cp:coreProperties>
</file>